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2E9-71AA-43BA-9F34-F8429E28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B1D-8A69-46B0-B588-DC38038B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1FF-CC0F-4494-B809-B5F21408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2DB-F4F3-4C40-8CC6-9BCAAB04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ADE-1A01-4DF2-B2BE-BA0753B1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53B-1C5F-4C69-BA8D-B96D77A5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775-5FC0-4709-9B89-13F96604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52F-D587-43BD-984A-B0E61F74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A8E-A310-4B5E-9A72-B36AFF78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62D-A5B2-4E07-9702-0F4E05EA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8AF-FB2B-4FA0-8FE7-64CFBAE2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A8D-D693-439B-82A6-347EFD98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33CA1-6EB3-42A3-B2ED-02469E9529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86822-153C-4FB2-BCE6-953ABA203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What are the two things that can happen at a convergent boundary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is the effect of two continental plates colliding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ental vs. Ocea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8028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Calibri"/>
              </a:rPr>
              <a:t>When a continental plate and oceanic plate collide, the oceanic plate subducts under the continental plate because it is more dense.   This subduction creates volcanic mountains on the land and a trench in the ocean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0" t="0" r="0" b="18749"/>
          <a:stretch/>
        </p:blipFill>
        <p:spPr>
          <a:xfrm>
            <a:off x="5956200" y="0"/>
            <a:ext cx="3187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happens when a continental plate and oceanic plate collid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ich plate is more dens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eanic vs. Ocea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2496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When two oceanic plates collide, the more dense plate will subduct under the less dense plate.  This subduction creates a trench in ocean floor and a volcanic island arc.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happens when two oceanic plates collid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225960"/>
            <a:ext cx="82296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Is this a diagram of subduction or plate collision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416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225960"/>
            <a:ext cx="82296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types of plates are involved in this convergent boundary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416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3225960"/>
            <a:ext cx="822960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are the effects of this type of subduction? (there are 2)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416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y does the oceanic plate subduct under the continental plate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Predict what will happen when a continental plate and oceanic plate collide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put (notes on convergent bounda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Guided Practice (team w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ndependent Practice (hando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0314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Is this a diagram of subduction or plate collision?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0" b="44757"/>
          <a:stretch/>
        </p:blipFill>
        <p:spPr>
          <a:xfrm>
            <a:off x="457200" y="4614840"/>
            <a:ext cx="86374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314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types of plates are involved in this convergent boundary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rcRect l="0" t="0" r="0" b="44757"/>
          <a:stretch/>
        </p:blipFill>
        <p:spPr>
          <a:xfrm>
            <a:off x="457200" y="4614840"/>
            <a:ext cx="86374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314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are the effects of this type of subduction? (there are 2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0" b="44757"/>
          <a:stretch/>
        </p:blipFill>
        <p:spPr>
          <a:xfrm>
            <a:off x="457200" y="4614840"/>
            <a:ext cx="86374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Does this convergent boundary result in plate collision or subductio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0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What types of plates are involved in this boundary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What are the effects of this subductio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11440" y="274320"/>
            <a:ext cx="247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04640" y="507960"/>
            <a:ext cx="4807080" cy="4770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5614920" y="1417680"/>
            <a:ext cx="352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the differences between these two subdu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3 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fter today, you will be able to predict what the effects of a convergent boundary are based on the types of crust involved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Goal 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80% Mastery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cience diplomats are aware of the importance of science to the international community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3 Test Averages Post Redem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3 Convergent Boundaries Class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st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0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There are two type of crust – oceanic crust and continental crust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Oceanic crust is more dense than continental crust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0" t="0" r="0" b="42064"/>
          <a:stretch/>
        </p:blipFill>
        <p:spPr>
          <a:xfrm>
            <a:off x="3251160" y="927000"/>
            <a:ext cx="2984400" cy="157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2511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Which type of plate is more dense?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ental vs. Contine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When two continental plates collide the crust piles up to form a mountain range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1:34:12Z</dcterms:created>
  <dc:creator>Caroline Roth</dc:creator>
  <dc:description/>
  <dc:language>en-US</dc:language>
  <cp:lastModifiedBy>Caroline Roth</cp:lastModifiedBy>
  <dcterms:modified xsi:type="dcterms:W3CDTF">2010-11-09T12:38:05Z</dcterms:modified>
  <cp:revision>4</cp:revision>
  <dc:subject/>
  <dc:title>Bellringer</dc:title>
</cp:coreProperties>
</file>